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A5F-60E5-4AB9-B87F-81629C14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D17-CDFB-400C-8D5E-9111F1B2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653-7FDA-4147-8F5F-FFF85157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817-86CE-4FE0-B57F-079E6FAD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244-9644-4A2C-B45B-A3940B18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1C67-3A65-4379-B69F-4250B9C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BD4-F44C-413E-AB22-CFCFDF3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5243-90D2-45A4-8064-F0C3C935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CA63-3FDC-4DBD-A67D-979B37E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AB82-1EB9-4A7C-94C0-4AF52E97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0B9C-E660-4269-9AEC-89BF9E9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FB8-14CD-404D-97AD-04932885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8101-257E-4D80-BF06-D66C9EA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84B3-3EF0-49FA-A0EB-4A2FB94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BD8-D2B9-4B11-8F6C-705DC6CC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E69D-6311-4FA9-82F7-58B70DB2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1109-A9D4-4664-9DB1-19537F19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B9C-6D0C-41F3-A656-E72ED68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D1E-A0F9-4F38-8459-C2A2D80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4D2-58FE-434A-9A4D-7FB081D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528-3D96-44D6-A8BE-40A9209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34B-3AD5-4FB7-A9AD-00B5B56F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E82-F913-47B6-AD19-D91B8D9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474-FF00-47A1-8162-1A2C8EC0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A6A-E9D3-48E7-9389-33028D1528C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CCB3-190D-458E-B969-D95A6E5FE42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Nazi Germa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3 - 19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48320" y="6172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y Mr Osborne</a:t>
            </a:r>
            <a:br>
              <a:rPr sz="1800"/>
            </a:b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choolHistory.co.u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6648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itler blamed the Jews f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reaty of  Versail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flation 192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Economic collapse 1929 -3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3 - Unsuccessful boycott of Jewish 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ews excluded from Government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ousands of professional Jewish people were dismissed from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4 - Jews banned from public places, parks, swimming pool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5 - The Nuremburg Laws 15 Sept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 - The Reich Law on citizenshi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- only those of German blood can be citizens, and have the right to vo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- Law for the protection of German Blood and Honour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- forbids marriage or sexual relations between Jews and German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6 - 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professional activity of Jews is banned or restricted - includes vets, doctors, dentists, accountants, teachers and nur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38 Qualifications of Jewish doctors is cance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8 - Riechkristalnacht 9th Nov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llowing the murder of a German diplomat in Paris by a Jew a campaign is started which last 3 days and targets Jewish shops, homes and synagogues. 90 killed 20 000 arrested and sent to concentration 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ewish children excluded form schools and Univers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9 - Jews no longer allowed to run businesses and 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bidden to own radios and to buy cakes and choco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40 - 42 Jews deported from Germany Jews in occupied territories moved into ghettos and used as slave labour. Special SS groups formed to deal with the Jews. Gassing in vans st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Wannsee Conference Jan 19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ision taken by Nazi leaders led by Heydrich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et to discuss the final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ision to evacuate all Jews to extermination camps in Poland is t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 4.5 million Jews killed in death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minorit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mosexuals, Gypsies and other undesirables sent to concentration ca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ntally ill sent to concentration ca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Euthanasia program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ople judged worthless to the regime were kill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,000 children 71, 000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opped in 1941 after protest from P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ced Sterilisation programme to prevent contamination  of the Aryan 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use of Terr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elite group of committed Nazis, used to eliminate the SA in June 19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arged with interna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uarded concentration 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unted political ene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manded by Heinrich Himm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use of Terr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Gesta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secret state police. Used to suppress hostility to the regime at home and in occupied terri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manded by Himm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use of Terr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centr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un by the SS to detain enemies of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chau 19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soners Jews, political, priests, anti-so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y 1939 six camps were oper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termination Camps Auschwitz-Birken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non Nazi newspapers and magazines were taken over or clo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content was strictly contro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66680" y="4495680"/>
            <a:ext cx="70866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stations under state control. Cheap mass produced radios sold. Sets installed in cafes and factories. All Hitlers speeches broadcas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lms : Over 100 000 made all approved by Goebbels. All films given a pro Nazi st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1752480" y="3352680"/>
            <a:ext cx="510552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nistry for Public Propaga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allies and Campaig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nual rally at Nurembu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36 Olympic Games, used as propaga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cal rallies and fund raising led by the Hitler Youth and local party organi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sters used to promote Nazi ide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7086600" y="457200"/>
            <a:ext cx="167652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ose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ebb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oks and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riters, and composers persuaded or forced to produce works in praise of Hit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oks written by Jews, Communists etc were banned and many destroyed in public book burning in 19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azz music banned because of its black ori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3520" y="1828800"/>
            <a:ext cx="2666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zi Part Attitu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imed to approve of Christianity and offer religious freedom. In fact attacked Churches and religious s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0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atholic Church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: Concordat 1933 in theory allowed Catholic Church to operate freely in return for an oath of loyalty. 1937 after a steady  erosion of its influence Pope condemns Nazi’s. Never take a stand on Jewish persec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495680" y="1600200"/>
            <a:ext cx="39625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testant Church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1933 attempt by Hitler to gain control and establish a Reich Church. Reich Church was anti-Christian and promoted Nazis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fessional Church founded in defiance of Naz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5:50:23Z</dcterms:created>
  <dc:creator>Osborne</dc:creator>
  <dc:description/>
  <dc:language>en-US</dc:language>
  <cp:lastModifiedBy>.</cp:lastModifiedBy>
  <dcterms:modified xsi:type="dcterms:W3CDTF">2010-03-12T08:20:11Z</dcterms:modified>
  <cp:revision>5</cp:revision>
  <dc:subject/>
  <dc:title>Nazi Germany </dc:title>
</cp:coreProperties>
</file>